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9ADC-5FE0-4B14-915E-B30B3958E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50D4-B0CE-41FB-B16F-4BA94A9A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9A2A-0BE8-4FD5-B609-3D898B048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8F77-342E-49B7-B9A8-86A054292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8F8F-210C-43AC-99BD-F32C3C051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8BDE-8F25-41A3-A4B7-F5930F5A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CC9D-E959-4709-AE58-2A58AFBD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5D4E-E2C1-4F96-8AE6-FEA9AD12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BB49-F408-4706-BFCD-C9A902A1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4F15-1BD6-4EF7-9E4C-1B7F485D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32FF-D300-41E2-8E4D-6785DD1F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099E-CC49-40C0-B356-80D5E88B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D2A3-A1D8-47F2-BEC8-DDF62DC9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59B8-0773-433F-9399-D09C199B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38E3-62FE-4AD6-B76D-2D0FEF37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0D26-908C-49E9-9E59-0495C1ADA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EF04-5ED6-44DE-9A12-CCDB4C144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2ED95-3AB1-4C58-8649-BBF8AB177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9E4D5-BBCB-44B2-9511-6F09550F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D80A3-8C5B-4EF0-953D-2BA13B9D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FD45B-501F-45FE-AA92-687E8A65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0E2FC-8150-491D-9DDA-FE24770F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6AEF-0DB3-4A7A-9159-CCD28D29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14438-1270-4E9D-AEDA-12407038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A0E21-EF1B-4BDD-A191-316F7E00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B5BF9-EDD6-494D-836B-DF87EBD3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77951-FCAC-4A1B-80FA-1035E35A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F788E-0E9F-4680-A5CF-32A5999A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F310F-C3BA-49E8-9ECD-9E6A9003A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EA2A9-BC5E-45DD-9B48-4722402F6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04DC4-A5DD-41D7-BDB4-5F6C7ED24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4A6E1-0AC4-4B1F-8628-6DC42185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4F237-B50A-4742-90EF-12386A36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E4C5-CC0A-45D1-A1AF-9451C449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7116B-D341-4724-8C76-B2CD3503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70A98-8583-4174-91D1-6BE3CD9B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EC0D0-EF93-4C59-AB38-7B526B01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9942A-FDD8-4A14-A4FB-50C2771C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04E2C-7A9C-47AC-B039-B015ABAA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A3C88-2BAA-47E7-A042-57FBF8FD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17E44-F3F5-46E6-ABF9-2F1E0E63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F7DCE-A0F6-4333-B6E8-A9FF42C1C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0B5CB-194C-4DAC-A727-A41A240BF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C5CD-5F25-4FDC-AE2B-D3F9E57F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74E7-CED8-4868-8945-8474D9A9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9558-C7AD-4C81-9B2B-B94162B1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0B97-03A4-4F06-A97F-0CD47C29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F7AC-2E87-4A99-A60F-C97D575F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055F-7F05-42DF-8EFF-8802D7A2489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815D-5747-4D7D-85E0-DE7AFE40652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F4DD-DA21-4A83-AD1F-5FD6D45C7B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14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EF9C-610A-494B-9A82-D3DC7C743B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7 ГОД И ПЛАНОВЫЙ ПЕРИОД 2018-2019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6.12.2016 № № 88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7 год и плановый период 2018-2019 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01640" y="990720"/>
          <a:ext cx="7777080" cy="54752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4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3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2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7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2,8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7 год – 335,65 млн.руб. (местный бюджет – 126,93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8,72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52,0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7 год – 8,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9,0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8920" y="843480"/>
            <a:ext cx="760716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6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49200" y="1879560"/>
          <a:ext cx="73184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879560"/>
                    <a:ext cx="7318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59040" y="319320"/>
            <a:ext cx="7638120" cy="7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РАСХОДЫ НА НЕПРОГРАММНЫЕ НАПРАВЛЕНИЯ </a:t>
            </a:r>
            <a:br>
              <a:rPr sz="1600"/>
            </a:b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ДЕЯТЕЛЬНОСТИ В 2017 ГОДУ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78040" y="1409760"/>
          <a:ext cx="75913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1409760"/>
                    <a:ext cx="7591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(млн.руб.)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5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41440" y="990720"/>
          <a:ext cx="8151840" cy="566244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351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6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14360" y="990720"/>
          <a:ext cx="8567640" cy="57531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3480" y="277920"/>
            <a:ext cx="751824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СТРУКТУРА ДОХОДОВ БЮДЖЕТА ДАЛЬНЕРЕЧЕНСКОГО ГОРОДСКОГО ОКРУГА НА 2017 ГОД (49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9,33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СТРУКТУРА СОБСТВЕННЫХ (НАЛОГОВЫХ И НЕНАЛОГОВЫХ) ДОХОДОВ В 2017 ГОДУ (2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83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,21 млн.руб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2520" y="1685880"/>
          <a:ext cx="81183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85880"/>
                    <a:ext cx="81183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РАВНЕНИЕ ОБЪЕМОВ МЕЖБЮДЖЕТНЫХ ТРАНСФЕРТОВ 2016 И 2017-2019 ГОДОВ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40160" y="1141560"/>
          <a:ext cx="3470400" cy="51768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1320" y="277560"/>
            <a:ext cx="7520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7 ГОДУ (2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,32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30000" y="270000"/>
            <a:ext cx="81025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8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6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277920"/>
            <a:ext cx="77310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7 ГОД (5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2,8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57280" y="1278000"/>
          <a:ext cx="820080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278000"/>
                    <a:ext cx="82008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01-26T07:57:55Z</dcterms:modified>
  <cp:revision>114</cp:revision>
  <dc:subject/>
  <dc:title>Структура собственных доходов на 2016 год бюджета Дальнереченского городского округа</dc:title>
</cp:coreProperties>
</file>